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C937-56B7-411F-8331-1B2BA8DE6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17A2-824A-43DA-85CD-04959D389482}" type="slidenum">
              <a:rPr b="0" lang="en-US" sz="1200" spc="-1" strike="noStrike">
                <a:solidFill>
                  <a:srgbClr val="4128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C6A-EDD2-4751-8085-47148FD9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856-0E17-4619-88D5-C56E2FAF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781-DB59-4C4A-866E-31B9BB0C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1DF-6EB1-4F5A-8F21-A4036AD2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CDEF-1886-41A6-B729-1C36A408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BC2E-5EF8-4A51-92A4-A0312880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3B88-312E-4DE7-B29A-83677699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28CD-A55B-40B6-8596-4FD2213E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B8D5-EB44-448A-AF15-9065332F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BF8C-9446-42A3-BE0A-B618AD53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B7E7-9DE2-45E4-A4E5-BAB30D0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1A7-4AA0-45DA-9253-50BD7A5D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66C8-1877-46C1-BE81-07746184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31FD-F8A2-4620-B25C-4A43C6F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8416-A6E9-40E0-B370-0AA2D7B8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E83D-C784-4B84-9157-064CCECE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EF49-EC6E-455D-AF12-A9D1746F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BFA-136F-46ED-B6D2-70B59B88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C7D-1B39-437A-B87B-73A85D90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E12-4D15-4AFB-BFCE-F6B2A834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33C-1B76-4D2E-9A48-A8FDBD1C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9A6-42B6-45EB-BDE6-6D5D62EC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057-6D0B-4A7C-BFA6-823A0825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1CC-37CC-4A19-B539-D0EE2492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1" name="Picture 1027" descr="topup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topup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029" descr="topup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030" descr="mark"/>
          <p:cNvPicPr/>
          <p:nvPr/>
        </p:nvPicPr>
        <p:blipFill>
          <a:blip r:embed="rId5"/>
          <a:stretch/>
        </p:blipFill>
        <p:spPr>
          <a:xfrm>
            <a:off x="0" y="685800"/>
            <a:ext cx="1143000" cy="104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7F89-F5DC-494C-8445-0F2E637F7886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34"/>
          <p:cNvGrpSpPr/>
          <p:nvPr/>
        </p:nvGrpSpPr>
        <p:grpSpPr>
          <a:xfrm>
            <a:off x="-54000" y="0"/>
            <a:ext cx="9220320" cy="797040"/>
            <a:chOff x="-54000" y="0"/>
            <a:chExt cx="9220320" cy="797040"/>
          </a:xfrm>
        </p:grpSpPr>
        <p:pic>
          <p:nvPicPr>
            <p:cNvPr id="9" name="Picture 1035" descr="top"/>
            <p:cNvPicPr/>
            <p:nvPr/>
          </p:nvPicPr>
          <p:blipFill>
            <a:blip r:embed="rId6"/>
            <a:stretch/>
          </p:blipFill>
          <p:spPr>
            <a:xfrm>
              <a:off x="-54000" y="0"/>
              <a:ext cx="312444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036" descr="top"/>
            <p:cNvPicPr/>
            <p:nvPr/>
          </p:nvPicPr>
          <p:blipFill>
            <a:blip r:embed="rId7"/>
            <a:stretch/>
          </p:blipFill>
          <p:spPr>
            <a:xfrm>
              <a:off x="299412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037" descr="top"/>
            <p:cNvPicPr/>
            <p:nvPr/>
          </p:nvPicPr>
          <p:blipFill>
            <a:blip r:embed="rId8"/>
            <a:stretch/>
          </p:blipFill>
          <p:spPr>
            <a:xfrm>
              <a:off x="604224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51" name="Picture 3" descr="topup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4" descr="topup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5" descr="topup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6" descr="mark"/>
          <p:cNvPicPr/>
          <p:nvPr/>
        </p:nvPicPr>
        <p:blipFill>
          <a:blip r:embed="rId5"/>
          <a:stretch/>
        </p:blipFill>
        <p:spPr>
          <a:xfrm>
            <a:off x="152280" y="2286000"/>
            <a:ext cx="1219320" cy="11127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0"/>
          <p:cNvGrpSpPr/>
          <p:nvPr/>
        </p:nvGrpSpPr>
        <p:grpSpPr>
          <a:xfrm>
            <a:off x="-31680" y="0"/>
            <a:ext cx="9219600" cy="797040"/>
            <a:chOff x="-31680" y="0"/>
            <a:chExt cx="9219600" cy="797040"/>
          </a:xfrm>
        </p:grpSpPr>
        <p:pic>
          <p:nvPicPr>
            <p:cNvPr id="56" name="Picture 11" descr="top"/>
            <p:cNvPicPr/>
            <p:nvPr/>
          </p:nvPicPr>
          <p:blipFill>
            <a:blip r:embed="rId6"/>
            <a:stretch/>
          </p:blipFill>
          <p:spPr>
            <a:xfrm>
              <a:off x="-3168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2" descr="top"/>
            <p:cNvPicPr/>
            <p:nvPr/>
          </p:nvPicPr>
          <p:blipFill>
            <a:blip r:embed="rId7"/>
            <a:stretch/>
          </p:blipFill>
          <p:spPr>
            <a:xfrm>
              <a:off x="301608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3" descr="top"/>
            <p:cNvPicPr/>
            <p:nvPr/>
          </p:nvPicPr>
          <p:blipFill>
            <a:blip r:embed="rId8"/>
            <a:stretch/>
          </p:blipFill>
          <p:spPr>
            <a:xfrm>
              <a:off x="606420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B013-55B0-4450-B5F4-C09DD01C8438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Winged_vic_mxc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057400" y="9907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219320" y="17524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280d"/>
                </a:solidFill>
                <a:latin typeface="Tahoma"/>
              </a:rPr>
              <a:t>PARA EMPEZAR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1280d"/>
                </a:solidFill>
                <a:latin typeface="Tahoma"/>
              </a:rPr>
              <a:t>(usen las preguntas para ayudarles)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En parejas, hablen de sus opiniones del arte: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e gusta el arte?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ienes un artista favorito?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Haces la clase de arte?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Cuál prefieres, pintar o dibujar?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Vas al museo con tu familia a veces?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TIPOS DE ARTE</a:t>
            </a:r>
            <a:endParaRPr b="0" lang="en-US" sz="4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943600" y="22096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943600" y="358128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un cuadro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pic>
        <p:nvPicPr>
          <p:cNvPr id="113" name="Picture 32" descr="http://sepiensa.org.mx/contenidos/h_mexicanas/imagen/arriv1.jpg"/>
          <p:cNvPicPr/>
          <p:nvPr/>
        </p:nvPicPr>
        <p:blipFill>
          <a:blip r:embed="rId1"/>
          <a:stretch/>
        </p:blipFill>
        <p:spPr>
          <a:xfrm>
            <a:off x="1447920" y="1905120"/>
            <a:ext cx="3200400" cy="38462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5105520" y="4876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Paisaje Zapatista (Diego Rivera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www.artespain.com/wp-content/uploads/retrato-de-mujer-de-diego-rivera.jpg"/>
          <p:cNvPicPr/>
          <p:nvPr/>
        </p:nvPicPr>
        <p:blipFill>
          <a:blip r:embed="rId1"/>
          <a:stretch/>
        </p:blipFill>
        <p:spPr>
          <a:xfrm>
            <a:off x="838080" y="1981080"/>
            <a:ext cx="4686480" cy="3438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5867280" y="22860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Tahoma"/>
              </a:rPr>
              <a:t>un retrato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257800" y="7621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trato de mujer (Diego Rivera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works_monkey"/>
          <p:cNvPicPr/>
          <p:nvPr/>
        </p:nvPicPr>
        <p:blipFill>
          <a:blip r:embed="rId1"/>
          <a:stretch/>
        </p:blipFill>
        <p:spPr>
          <a:xfrm>
            <a:off x="1523880" y="1676520"/>
            <a:ext cx="2971800" cy="41544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5029200" y="19810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Tahoma"/>
              </a:rPr>
              <a:t>un autorretrato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105520" y="4876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utorretrato con mono (Frida Kahlo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28954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mural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pic>
        <p:nvPicPr>
          <p:cNvPr id="122" name="Picture 4" descr="el mundo azteca"/>
          <p:cNvPicPr/>
          <p:nvPr/>
        </p:nvPicPr>
        <p:blipFill>
          <a:blip r:embed="rId1"/>
          <a:stretch/>
        </p:blipFill>
        <p:spPr>
          <a:xfrm>
            <a:off x="2819520" y="838080"/>
            <a:ext cx="5943600" cy="5004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152280" y="41148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El mundo Azteca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(Diego Rivera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172200" y="3429000"/>
            <a:ext cx="23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dibujo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5867280" y="15238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ccidente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(Frida Kahlo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327560" y="-693720"/>
            <a:ext cx="1942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4327560" y="-693720"/>
            <a:ext cx="1942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pic>
        <p:nvPicPr>
          <p:cNvPr id="128" name="Picture 11" descr="http://farm5.static.flickr.com/4071/4677691528_7da1242fee.jpg"/>
          <p:cNvPicPr/>
          <p:nvPr/>
        </p:nvPicPr>
        <p:blipFill>
          <a:blip r:embed="rId1"/>
          <a:stretch/>
        </p:blipFill>
        <p:spPr>
          <a:xfrm>
            <a:off x="990720" y="1981080"/>
            <a:ext cx="47624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819520" y="9144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a escultura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pic>
        <p:nvPicPr>
          <p:cNvPr id="130" name="Picture 5" descr="mosca"/>
          <p:cNvPicPr/>
          <p:nvPr/>
        </p:nvPicPr>
        <p:blipFill>
          <a:blip r:embed="rId1"/>
          <a:stretch/>
        </p:blipFill>
        <p:spPr>
          <a:xfrm>
            <a:off x="2743200" y="2286000"/>
            <a:ext cx="3949560" cy="29494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5715000" y="5105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sca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(Aztecas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819520" y="52578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monumento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pic>
        <p:nvPicPr>
          <p:cNvPr id="133" name="Picture 5" descr="http://upload.wikimedia.org/wikipedia/commons/thumb/a/a5/Winged_vic_mxc.jpg/200px-Winged_vic_mx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523880"/>
            <a:ext cx="1905120" cy="3514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809880" y="20574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numento de Independencia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(en el Zócalo, Ciudad de México, México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838080" y="14479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280d"/>
                </a:solidFill>
                <a:latin typeface="Verdana"/>
              </a:rPr>
              <a:t>VOCABULARIO</a:t>
            </a:r>
            <a:r>
              <a:rPr b="0" lang="en-US" sz="3600" spc="-1" strike="noStrike">
                <a:solidFill>
                  <a:srgbClr val="41280d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41280d"/>
                </a:solidFill>
                <a:latin typeface="Verdana"/>
              </a:rPr>
              <a:t>- TIPO</a:t>
            </a:r>
            <a:endParaRPr b="0" lang="en-US" sz="4800" spc="-1" strike="noStrike">
              <a:solidFill>
                <a:srgbClr val="41280d"/>
              </a:solidFill>
              <a:latin typeface="Verdana"/>
            </a:endParaRPr>
          </a:p>
        </p:txBody>
      </p:sp>
      <p:pic>
        <p:nvPicPr>
          <p:cNvPr id="136" name="Text Box 2" descr=""/>
          <p:cNvPicPr/>
          <p:nvPr/>
        </p:nvPicPr>
        <p:blipFill>
          <a:blip r:embed="rId1"/>
          <a:stretch/>
        </p:blipFill>
        <p:spPr>
          <a:xfrm>
            <a:off x="907920" y="2419200"/>
            <a:ext cx="7480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2:33:39Z</dcterms:created>
  <dc:creator>Student</dc:creator>
  <dc:description/>
  <dc:language>en-US</dc:language>
  <cp:lastModifiedBy>Windows User</cp:lastModifiedBy>
  <dcterms:modified xsi:type="dcterms:W3CDTF">2011-02-23T06:42:08Z</dcterms:modified>
  <cp:revision>28</cp:revision>
  <dc:subject/>
  <dc:title>PowerPoint Presentation</dc:title>
</cp:coreProperties>
</file>